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70F-6943-47F1-80C7-50D35BA5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E23-6A26-48E3-827E-D07314E6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15D-56D8-489B-874D-EAAA03A1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11B-24A4-4CFF-9273-B14E8DAC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EA91-5753-47F0-962A-D5A50BB7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ABAE-007D-4DDD-8045-E765324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215-A722-487F-AB7B-03B193E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8483-CCAB-4E84-A418-6C4E4E9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A8C-3101-4895-B2DA-19D85190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874-DD65-4574-A966-72589AE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9FC-0063-4AD9-8784-C225313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811-5CB4-4DB1-8B94-EC5DA0F3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80D-776E-4570-AE32-9CBD702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55F-A87C-4DE2-AA3F-601C353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0C2-117F-4863-BBFE-02D215C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C2E8-0BB9-41F2-BE64-D1B5E147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3C26-E131-4FD6-B44F-AC61B4E0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62A-ED72-4A9C-BDA5-2D1133B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6B7-CF93-46FF-8A88-7A74E29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68C-CAFD-43B5-AC2F-747E42E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49A-8438-4E6D-839F-9551EF3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FD8-B4F8-4BFB-99D1-5911662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E21-6E9F-4DD3-A723-415E7BA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8EB-BDB5-438A-AFCA-89B67995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740-CA3F-4735-82BD-043F27EF05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68A-72E9-4C1C-8B36-7DB1A302E3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5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entury Gothic"/>
              </a:rPr>
              <a:t>Electrons i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 mechanical mode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mes from the mathematical solution to the Schrödinge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es not define exact path an electron takes around the nucleus, but does restrict energy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timates probability of finding an electron in a certa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 quantum numbers (n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designate energy levels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ectrons occup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ergy subleve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; number of sublevels = the principal quantum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re the cloud shapes where electrons can be found; denoted by letters (s, p, d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ays in which electrons are arranged around the nuclei of atoms are calle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ctro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ufbau principle: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rons enter orbitals of lowest energ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auli exclusion princip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 atomic orbital may describe at most two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und’s ru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when electrons occupy orbitals of equal energy, one electron enters each orbital until all the orbitals contain one electron with parallel s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3p 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4p  4d  4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5s  5p  5d 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6s  6p  6d  6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7s  7p  7d  7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9144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83772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83772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838080" y="32004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685440" y="3429000"/>
            <a:ext cx="1981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electron configurations for these atoms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tangle 10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member atomic the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om considered indi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om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lum pudding at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rons stuck into a mass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id not take into account number of protons, neutrons, and electrons, arrangement within atom, or how ion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uther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clear atom in which electrons surround dense positively charg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t of atom empt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at prevents the electrons from falling into the nucle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o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lanetary” model of the a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lectrons in a particular path have a fixed energy; they do not lose energy and fall into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Energy level: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region around the nucleus where the electron is likely to be mo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Quantum: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mount of energy required to move an electron from one energy level to the next higher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4" name="Picture 9" descr="MCj04369170000[1]"/>
          <p:cNvPicPr/>
          <p:nvPr/>
        </p:nvPicPr>
        <p:blipFill>
          <a:blip r:embed="rId1"/>
          <a:stretch/>
        </p:blipFill>
        <p:spPr>
          <a:xfrm>
            <a:off x="1830240" y="43005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thomson"/>
          <p:cNvPicPr/>
          <p:nvPr/>
        </p:nvPicPr>
        <p:blipFill>
          <a:blip r:embed="rId2"/>
          <a:stretch/>
        </p:blipFill>
        <p:spPr>
          <a:xfrm>
            <a:off x="1828800" y="2438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QM Model"/>
          <p:cNvPicPr/>
          <p:nvPr/>
        </p:nvPicPr>
        <p:blipFill>
          <a:blip r:embed="rId3"/>
          <a:stretch/>
        </p:blipFill>
        <p:spPr>
          <a:xfrm>
            <a:off x="5562720" y="411480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rutherford"/>
          <p:cNvPicPr/>
          <p:nvPr/>
        </p:nvPicPr>
        <p:blipFill>
          <a:blip r:embed="rId4"/>
          <a:stretch/>
        </p:blipFill>
        <p:spPr>
          <a:xfrm>
            <a:off x="5486400" y="2438280"/>
            <a:ext cx="1828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ght line spectra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when connected to an energy source, gases emit distinct lines of color which can be used to ident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ydrogen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lways had the same 4 colors at the same 4 frequencies – electrons can only exist at certain energ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“excited”, electrons absorb energy and “jump” to a higher energy level (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ited atoms are unstable and lose energy only in certain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ght waves of distinct frequencies are emitted when electrons return to their “normal”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ves posse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ergy is directly proportional to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=h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ergy in joules=(6.63 x 1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J*s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quency and wavelength are indirect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=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λ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m/s=(wavelength in m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termining 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ve has a frequency of 5.0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z, what energy does it poss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 wave has a 3.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 wavelength, what is its frequ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frequency of a wave with 2.9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J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energy possessed by a wave with a wavelength of 0.025 m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udsd</cp:lastModifiedBy>
  <dcterms:modified xsi:type="dcterms:W3CDTF">2008-11-12T12:39:31Z</dcterms:modified>
  <cp:revision>31</cp:revision>
  <dc:subject/>
  <dc:title>Slide 1</dc:title>
</cp:coreProperties>
</file>